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D2F-A52F-4669-BD34-2CCC25E7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E9D-ACE2-49DF-B5DC-36A16480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BAC-7508-44D3-9B4A-93C21EDE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F44-6789-4D17-B1DC-EDB69676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9815-1F38-46B7-AA15-F8C1889F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AD2B-B954-44C5-A0A1-47EF3BB8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40B7-6CA9-4183-AB95-836D5FA8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3BBC-4BC3-4FCD-B87E-F9EF0B84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1915-5719-44CE-A5E7-C71E2AF7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5B5E-4C01-4344-B141-BBDBD7EC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54F0-D94A-4D0C-8E45-F2616A17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4C7-E434-44E8-9736-F02999D9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9532-1BDB-47B1-B4B8-66573AC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153B-8161-4EA9-9A8F-5D8A0F3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4380-159F-46AD-9269-38FA57C4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9FF5-804E-4ACB-ADEA-17157E4B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E0F-9249-4E90-8008-6736F8F3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A3B-AAA2-4D12-928E-72D4279C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016-621A-4952-8260-616A7101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749-0C58-4A6A-B240-22F348D0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03C-977A-45BB-963C-EB28C972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D06-C6EE-4476-868F-D7A6A9F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06A-AFB3-4A86-A449-74C1C75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FC6-2CAE-4D12-82F9-C7F2FB3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58E9-AB6A-4A47-8348-90DB487E5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25ED-64F1-42FA-A1C1-61CE847073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Management of Critical Perioperative Patien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Christiana Weng, M.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Surgical Regis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pertinent histor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gery did they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s the post-op course be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re history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#1 lap chole, enterotomy repair by small bowel resection with primary anastomosis, liver biopsy x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nausea post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CA but abd pain 10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98% on 2L at the beginning of shift; now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form a Focused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mental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hythmia? Weak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qual breath sounds? Crack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abd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extremity with unequal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s and d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us entericus? Blood? Acsitic flu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c but regula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breath sound left lower 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distended with absent bowel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s with each per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cia intact, dress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with 50ml dark yellow u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s – UOP, temp, CVP, BP, HR, O2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s- hgb drop, lact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B or CX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3880" y="5486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order on this pat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bs came ba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1.3 (was 0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arb 19 (was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ili 1.6 (was 0.9); direct bili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C 2.9 (was 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gb 12.6 (was 1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38/37/61/21/9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UB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8" name="Picture 3" descr="C:\Documents and Settings\HCMARTINEZ\My Documents\Christiana\Mini Lecture\SBO films\NDacoron_1_1.jpg"/>
          <p:cNvPicPr/>
          <p:nvPr/>
        </p:nvPicPr>
        <p:blipFill>
          <a:blip r:embed="rId1"/>
          <a:stretch/>
        </p:blipFill>
        <p:spPr>
          <a:xfrm>
            <a:off x="3048120" y="1371600"/>
            <a:ext cx="406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Picture 3" descr="C:\Documents and Settings\HCMARTINEZ\My Documents\Christiana\Mini Lecture\SBO films\NDacoron cxr_1_1.jpg"/>
          <p:cNvPicPr/>
          <p:nvPr/>
        </p:nvPicPr>
        <p:blipFill>
          <a:blip r:embed="rId1"/>
          <a:stretch/>
        </p:blipFill>
        <p:spPr>
          <a:xfrm>
            <a:off x="2057400" y="1523880"/>
            <a:ext cx="61722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ink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surgery/procedure and everything that could go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on’t find the cause if you don’t think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of action depends on a good list of differ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- hypovolemic, septic, cardioge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iscence/evisc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or limb compartmen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/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ICU resident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post-op complications promp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appropriate post-op complication man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ptic Sho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infection = vasod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perforation? Anastomotic lea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us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-abdominal abscesses, psoas abscesses, epidural abscesses, obstructing kidney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tion pneumonia or urosep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empiric abx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ascial dehiscence/Evisce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-tale sign: dressing drenched with ascitic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nurished, obese, immunosup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at’s 90% of our pati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nd feel for the integrity of the midlin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isce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eviscerated bowel with wet gau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surgeon right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bdominal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progressive oligurea, tense abdomen, increased respiratory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lap patients, cirrhotics, malnur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IAP by connecting a foley to the CVP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if &gt;2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ous if &gt;3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bd Compartment Syndr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: De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the wound vacuum s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the ascites (repeat 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Limb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weak or absent pulses, blue or dusky limb, tense, extrem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all extern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orthopod for emergent fasci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ack to our patient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ning septic shock suspected based on AMS, low WBC, and peritoneal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x: PE, unrecognized enterotomy, anastomotic leak, early intra-abd abscess, occult intra-abd bleeding, bile periton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 chest CT negative for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eon was called and patient taken back to OR emerg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erotomy was found and re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ottom Lin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ix bad.  Fluids goo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resuscitation= when you see p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examine your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, then you’ll know what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r responsibilit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surgical ICU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R, OR, or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sign-outs from the sur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 to ICU/IMCU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 post-op check if floor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resident surgical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real case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r, my post-op patient has had no urine output for the last 4 hours.  Should we give her some Lasix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5120" y="2133720"/>
            <a:ext cx="6476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luid Goo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six Ba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2720" y="5334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0020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52480" y="762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057400" y="5334120"/>
            <a:ext cx="50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scitation Fluid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loid- NS and LR bol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span-max 1500ml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s 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ware of DIC, thrombocytopenia, bleed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Resuscitation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 is not better than crystall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nough NS/LR before giving Hes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give back all volume lost to NGT, drains, open w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give at least 3+ liters of fluid before using pres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see the pati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pertinen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a focused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!  DDx,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ppropriate consul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o See the Patien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yo female with DM2, HTN; charge nurse at the jail by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 102.4, BP 108/64, HR 138, RR28, O2Sat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ing in pain, not answering questions, breathing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40:35Z</dcterms:created>
  <dc:creator>Kim Haglund</dc:creator>
  <dc:description/>
  <dc:language>en-US</dc:language>
  <cp:lastModifiedBy>HCMARTINEZ</cp:lastModifiedBy>
  <dcterms:modified xsi:type="dcterms:W3CDTF">2009-06-04T23:28:00Z</dcterms:modified>
  <cp:revision>50</cp:revision>
  <dc:subject/>
  <dc:title>Management of Critical Perioperative Patients</dc:title>
</cp:coreProperties>
</file>